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E1C-5357-4026-A9A4-7EB691B1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0A8-58DD-4FAB-9E83-501EFC61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C1B-ACDA-44D3-853D-C60C0A16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489-39CB-48FE-88BE-99E8F22F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3CBC-47A6-4ED8-92AD-D1295381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FBB1-2A0E-4B15-BF21-98AA237E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845-1C34-4B24-95AF-E0669663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989F-8544-4A44-BBD8-C20399B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23D-9DA5-45DA-AD74-4C7299D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3D0-5223-4FBA-B28A-0600C6C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38D9-D4DC-4ED6-A07D-7426761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878-1806-4CDB-BBB5-B606F67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453B-C42F-4ABE-9389-8643A16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F0F-948F-4D31-A908-F986DE6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B850-7DFE-42E1-B069-A29CC5D3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DAF0-1128-49FB-9D35-B95F3A1B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F585-A8EB-4AF5-AF03-A6E2AB97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E05-A393-4752-99FE-4D514B4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F8C-22AB-4F72-8BE8-BE8AEF48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A5E-D09B-40D9-ABD2-B827151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588-F095-418F-89F5-4E91530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6F8-ECE4-455D-953F-1026CD0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FC9-AF7B-4399-ADEB-898F7F3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E53-F543-4FC4-935F-4632D96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DC59-1BB0-418A-8198-3DE7872A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78E-77E3-4C84-BD79-50CBA52F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5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G00130_" descr=""/>
          <p:cNvPicPr/>
          <p:nvPr/>
        </p:nvPicPr>
        <p:blipFill>
          <a:blip r:embed="rId1"/>
          <a:stretch/>
        </p:blipFill>
        <p:spPr>
          <a:xfrm>
            <a:off x="838080" y="53341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5" name="AG00130_" descr=""/>
          <p:cNvPicPr/>
          <p:nvPr/>
        </p:nvPicPr>
        <p:blipFill>
          <a:blip r:embed="rId2"/>
          <a:stretch/>
        </p:blipFill>
        <p:spPr>
          <a:xfrm>
            <a:off x="2895480" y="56386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6" name="AG00130_" descr=""/>
          <p:cNvPicPr/>
          <p:nvPr/>
        </p:nvPicPr>
        <p:blipFill>
          <a:blip r:embed="rId3"/>
          <a:stretch/>
        </p:blipFill>
        <p:spPr>
          <a:xfrm>
            <a:off x="1981080" y="16765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7" name="AG00130_" descr=""/>
          <p:cNvPicPr/>
          <p:nvPr/>
        </p:nvPicPr>
        <p:blipFill>
          <a:blip r:embed="rId4"/>
          <a:stretch/>
        </p:blipFill>
        <p:spPr>
          <a:xfrm>
            <a:off x="2362320" y="4724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8" name="AG00130_" descr=""/>
          <p:cNvPicPr/>
          <p:nvPr/>
        </p:nvPicPr>
        <p:blipFill>
          <a:blip r:embed="rId5"/>
          <a:stretch/>
        </p:blipFill>
        <p:spPr>
          <a:xfrm>
            <a:off x="3276720" y="21337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AG00130_" descr=""/>
          <p:cNvPicPr/>
          <p:nvPr/>
        </p:nvPicPr>
        <p:blipFill>
          <a:blip r:embed="rId6"/>
          <a:stretch/>
        </p:blipFill>
        <p:spPr>
          <a:xfrm>
            <a:off x="4495680" y="1295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0" name="AG00130_" descr=""/>
          <p:cNvPicPr/>
          <p:nvPr/>
        </p:nvPicPr>
        <p:blipFill>
          <a:blip r:embed="rId7"/>
          <a:stretch/>
        </p:blipFill>
        <p:spPr>
          <a:xfrm>
            <a:off x="7772400" y="45720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1" name="AG00130_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2" name="AG00130_" descr=""/>
          <p:cNvPicPr/>
          <p:nvPr/>
        </p:nvPicPr>
        <p:blipFill>
          <a:blip r:embed="rId9"/>
          <a:stretch/>
        </p:blipFill>
        <p:spPr>
          <a:xfrm>
            <a:off x="4343400" y="3657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3" name="AG00130_" descr=""/>
          <p:cNvPicPr/>
          <p:nvPr/>
        </p:nvPicPr>
        <p:blipFill>
          <a:blip r:embed="rId10"/>
          <a:stretch/>
        </p:blipFill>
        <p:spPr>
          <a:xfrm>
            <a:off x="4876920" y="57913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4" name="AG00130_" descr=""/>
          <p:cNvPicPr/>
          <p:nvPr/>
        </p:nvPicPr>
        <p:blipFill>
          <a:blip r:embed="rId11"/>
          <a:stretch/>
        </p:blipFill>
        <p:spPr>
          <a:xfrm>
            <a:off x="7467480" y="33526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5" name="AG00130_" descr=""/>
          <p:cNvPicPr/>
          <p:nvPr/>
        </p:nvPicPr>
        <p:blipFill>
          <a:blip r:embed="rId12"/>
          <a:stretch/>
        </p:blipFill>
        <p:spPr>
          <a:xfrm>
            <a:off x="762120" y="15238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AG00130_" descr=""/>
          <p:cNvPicPr/>
          <p:nvPr/>
        </p:nvPicPr>
        <p:blipFill>
          <a:blip r:embed="rId13"/>
          <a:stretch/>
        </p:blipFill>
        <p:spPr>
          <a:xfrm>
            <a:off x="533520" y="32004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7" name="AG00130_" descr=""/>
          <p:cNvPicPr/>
          <p:nvPr/>
        </p:nvPicPr>
        <p:blipFill>
          <a:blip r:embed="rId14"/>
          <a:stretch/>
        </p:blipFill>
        <p:spPr>
          <a:xfrm>
            <a:off x="6705720" y="57150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8" name="AG00130_" descr=""/>
          <p:cNvPicPr/>
          <p:nvPr/>
        </p:nvPicPr>
        <p:blipFill>
          <a:blip r:embed="rId15"/>
          <a:stretch/>
        </p:blipFill>
        <p:spPr>
          <a:xfrm>
            <a:off x="1371600" y="396252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AG00130_" descr=""/>
          <p:cNvPicPr/>
          <p:nvPr/>
        </p:nvPicPr>
        <p:blipFill>
          <a:blip r:embed="rId16"/>
          <a:stretch/>
        </p:blipFill>
        <p:spPr>
          <a:xfrm>
            <a:off x="6629400" y="12952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04920" y="2438280"/>
            <a:ext cx="60958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Kids"/>
              </a:rPr>
              <a:t>Moths and Butterflies</a:t>
            </a:r>
            <a:endParaRPr b="0" lang="en-US" sz="4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Kids"/>
              <a:ea typeface="Kid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dult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5" name="Butterly%20and%20moth" descr=""/>
          <p:cNvPicPr/>
          <p:nvPr/>
        </p:nvPicPr>
        <p:blipFill>
          <a:blip r:embed="rId1"/>
          <a:srcRect l="3574" t="8132" r="3574" b="7962"/>
          <a:stretch/>
        </p:blipFill>
        <p:spPr>
          <a:xfrm>
            <a:off x="1143000" y="2666880"/>
            <a:ext cx="5943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06240"/>
            <a:ext cx="7162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utterfly or Moth?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fly during day, moths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brighte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s have fuzzie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est, butterflies fold their wings and moths open the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ies have knobs on their antennas, moths sometimes have feathery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G00130_" descr=""/>
          <p:cNvPicPr/>
          <p:nvPr/>
        </p:nvPicPr>
        <p:blipFill>
          <a:blip r:embed="rId1"/>
          <a:stretch/>
        </p:blipFill>
        <p:spPr>
          <a:xfrm>
            <a:off x="8305920" y="38088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49" name="AG00130_" descr=""/>
          <p:cNvPicPr/>
          <p:nvPr/>
        </p:nvPicPr>
        <p:blipFill>
          <a:blip r:embed="rId2"/>
          <a:stretch/>
        </p:blipFill>
        <p:spPr>
          <a:xfrm>
            <a:off x="8381880" y="2514600"/>
            <a:ext cx="492120" cy="422280"/>
          </a:xfrm>
          <a:prstGeom prst="rect">
            <a:avLst/>
          </a:prstGeom>
          <a:ln w="0">
            <a:noFill/>
          </a:ln>
        </p:spPr>
      </p:pic>
      <p:pic>
        <p:nvPicPr>
          <p:cNvPr id="150" name="AG00130_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921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2895480"/>
            <a:ext cx="568656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Kids"/>
              </a:rPr>
              <a:t>Butterflies of Utah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Kids"/>
              <a:ea typeface="Kid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Monarch%20Butterfly" descr=""/>
          <p:cNvPicPr/>
          <p:nvPr/>
        </p:nvPicPr>
        <p:blipFill>
          <a:blip r:embed="rId4"/>
          <a:stretch/>
        </p:blipFill>
        <p:spPr>
          <a:xfrm>
            <a:off x="4267080" y="4038480"/>
            <a:ext cx="2133720" cy="14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Silvery%20Blue" descr=""/>
          <p:cNvPicPr/>
          <p:nvPr/>
        </p:nvPicPr>
        <p:blipFill>
          <a:blip r:embed="rId5"/>
          <a:stretch/>
        </p:blipFill>
        <p:spPr>
          <a:xfrm>
            <a:off x="2743200" y="1092240"/>
            <a:ext cx="2133720" cy="142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5" name="southwestern%20sister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2590560" cy="172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6" name="Great%20Western%20Swallowtail" descr=""/>
          <p:cNvPicPr/>
          <p:nvPr/>
        </p:nvPicPr>
        <p:blipFill>
          <a:blip r:embed="rId7"/>
          <a:stretch/>
        </p:blipFill>
        <p:spPr>
          <a:xfrm>
            <a:off x="304920" y="4800600"/>
            <a:ext cx="2666880" cy="177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Colorado%20Hairstreak" descr=""/>
          <p:cNvPicPr/>
          <p:nvPr/>
        </p:nvPicPr>
        <p:blipFill>
          <a:blip r:embed="rId8"/>
          <a:srcRect l="622" t="5377" r="67099" b="17770"/>
          <a:stretch/>
        </p:blipFill>
        <p:spPr>
          <a:xfrm>
            <a:off x="2895480" y="4343400"/>
            <a:ext cx="1752840" cy="1438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8" name="common%20buckeye" descr=""/>
          <p:cNvPicPr/>
          <p:nvPr/>
        </p:nvPicPr>
        <p:blipFill>
          <a:blip r:embed="rId9"/>
          <a:srcRect l="0" t="0" r="46056" b="14472"/>
          <a:stretch/>
        </p:blipFill>
        <p:spPr>
          <a:xfrm>
            <a:off x="6095880" y="5105520"/>
            <a:ext cx="1905120" cy="143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9" name="Summer%20Azure" descr=""/>
          <p:cNvPicPr/>
          <p:nvPr/>
        </p:nvPicPr>
        <p:blipFill>
          <a:blip r:embed="rId10"/>
          <a:srcRect l="0" t="0" r="1061" b="16521"/>
          <a:stretch/>
        </p:blipFill>
        <p:spPr>
          <a:xfrm>
            <a:off x="228600" y="0"/>
            <a:ext cx="2514600" cy="2343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Monarch%20Butterfly" descr=""/>
          <p:cNvPicPr/>
          <p:nvPr/>
        </p:nvPicPr>
        <p:blipFill>
          <a:blip r:embed="rId1"/>
          <a:stretch/>
        </p:blipFill>
        <p:spPr>
          <a:xfrm>
            <a:off x="1828800" y="1473120"/>
            <a:ext cx="541008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523880" y="56386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Mon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ilvery%20Blu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562720" cy="37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905120" y="53341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54100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ilvery 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outhwestern%20sister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876920" cy="32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066680" y="4876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outhwestern Si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3880" y="54100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wallow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Great%20Western%20Swallowtail" descr=""/>
          <p:cNvPicPr/>
          <p:nvPr/>
        </p:nvPicPr>
        <p:blipFill>
          <a:blip r:embed="rId1"/>
          <a:stretch/>
        </p:blipFill>
        <p:spPr>
          <a:xfrm>
            <a:off x="1752480" y="1193760"/>
            <a:ext cx="50292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olorado%20Hairstreak" descr=""/>
          <p:cNvPicPr/>
          <p:nvPr/>
        </p:nvPicPr>
        <p:blipFill>
          <a:blip r:embed="rId1"/>
          <a:srcRect l="622" t="5377" r="67099" b="17770"/>
          <a:stretch/>
        </p:blipFill>
        <p:spPr>
          <a:xfrm>
            <a:off x="2057400" y="1143000"/>
            <a:ext cx="3962520" cy="3251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362320" y="48006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Colorado Hairst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62320" y="48006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Common Bucke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common%20buckeye" descr=""/>
          <p:cNvPicPr/>
          <p:nvPr/>
        </p:nvPicPr>
        <p:blipFill>
          <a:blip r:embed="rId1"/>
          <a:srcRect l="0" t="0" r="46056" b="14472"/>
          <a:stretch/>
        </p:blipFill>
        <p:spPr>
          <a:xfrm>
            <a:off x="1828800" y="990720"/>
            <a:ext cx="4419720" cy="331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ummer%20Azure" descr=""/>
          <p:cNvPicPr/>
          <p:nvPr/>
        </p:nvPicPr>
        <p:blipFill>
          <a:blip r:embed="rId1"/>
          <a:srcRect l="0" t="0" r="1061" b="16521"/>
          <a:stretch/>
        </p:blipFill>
        <p:spPr>
          <a:xfrm>
            <a:off x="2286000" y="609480"/>
            <a:ext cx="4038480" cy="376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286000" y="5486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334120"/>
            <a:ext cx="3733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1055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ids"/>
              </a:rPr>
              <a:t>Summer Az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-17064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ody Parts of a Butterfly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osc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ten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eat%20Western%20Swallowtail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4190760" cy="340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676520" y="2286000"/>
            <a:ext cx="34290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81080" y="3885840"/>
            <a:ext cx="3124440" cy="3049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38280" y="4343400"/>
            <a:ext cx="2667240" cy="13716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6800"/>
            <a:ext cx="44956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lphabet</a:t>
            </a:r>
            <a:r>
              <a:rPr b="0" lang="en-US" sz="4400" spc="-1" strike="noStrike">
                <a:solidFill>
                  <a:srgbClr val="003300"/>
                </a:solidFill>
                <a:latin typeface="Kids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Butterfli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80" name="butterflyalphabet1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849840" cy="4295880"/>
          </a:xfrm>
          <a:prstGeom prst="rect">
            <a:avLst/>
          </a:prstGeom>
          <a:ln w="0">
            <a:noFill/>
          </a:ln>
        </p:spPr>
      </p:pic>
      <p:pic>
        <p:nvPicPr>
          <p:cNvPr id="181" name="butterflyalphabet2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2935440" cy="4270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04920" y="63244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Head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876920" cy="4038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tenn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to smell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many tiny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os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ng mouth used to drink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biscus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543040" cy="3962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581280" y="2286000"/>
            <a:ext cx="3581640" cy="2286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438280" y="3352320"/>
            <a:ext cx="3962520" cy="2286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81280" y="3885840"/>
            <a:ext cx="2438640" cy="762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Thorax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wings and six legs grow from the 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gs are covered with bright powdery scales that fall off with every flight and fade in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flies smell with thei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68160"/>
            <a:ext cx="6324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Abdomen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3124440" cy="41148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rea contains little holes called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ra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allow the butterfly to 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utterfly%20parts" descr=""/>
          <p:cNvPicPr/>
          <p:nvPr/>
        </p:nvPicPr>
        <p:blipFill>
          <a:blip r:embed="rId1"/>
          <a:srcRect l="10300" t="55349" r="55362" b="6623"/>
          <a:stretch/>
        </p:blipFill>
        <p:spPr>
          <a:xfrm>
            <a:off x="4267080" y="2971800"/>
            <a:ext cx="228600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86560"/>
            <a:ext cx="7315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Life</a:t>
            </a:r>
            <a:r>
              <a:rPr b="0" lang="en-US" sz="4400" spc="-1" strike="noStrike">
                <a:solidFill>
                  <a:srgbClr val="003300"/>
                </a:solidFill>
                <a:latin typeface="Kids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Cycle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133720"/>
            <a:ext cx="3886200" cy="403848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89480" y="16765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29000" y="1600200"/>
            <a:ext cx="1523880" cy="1951200"/>
            <a:chOff x="3429000" y="1600200"/>
            <a:chExt cx="1523880" cy="1951200"/>
          </a:xfrm>
        </p:grpSpPr>
        <p:pic>
          <p:nvPicPr>
            <p:cNvPr id="123" name="egg75" descr=""/>
            <p:cNvPicPr/>
            <p:nvPr/>
          </p:nvPicPr>
          <p:blipFill>
            <a:blip r:embed="rId1"/>
            <a:stretch/>
          </p:blipFill>
          <p:spPr>
            <a:xfrm>
              <a:off x="3429000" y="2362320"/>
              <a:ext cx="1219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29000" y="16002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Eg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00600" y="3581280"/>
            <a:ext cx="3200400" cy="959040"/>
            <a:chOff x="4800600" y="3581280"/>
            <a:chExt cx="3200400" cy="959040"/>
          </a:xfrm>
        </p:grpSpPr>
        <p:pic>
          <p:nvPicPr>
            <p:cNvPr id="126" name="lava75" descr=""/>
            <p:cNvPicPr/>
            <p:nvPr/>
          </p:nvPicPr>
          <p:blipFill>
            <a:blip r:embed="rId2"/>
            <a:stretch/>
          </p:blipFill>
          <p:spPr>
            <a:xfrm>
              <a:off x="4800600" y="3581280"/>
              <a:ext cx="121932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019920" y="38862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Caterpil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581280" y="4876920"/>
            <a:ext cx="1371600" cy="1678680"/>
            <a:chOff x="3581280" y="4876920"/>
            <a:chExt cx="1371600" cy="1678680"/>
          </a:xfrm>
        </p:grpSpPr>
        <p:pic>
          <p:nvPicPr>
            <p:cNvPr id="129" name="chrysalis75" descr=""/>
            <p:cNvPicPr/>
            <p:nvPr/>
          </p:nvPicPr>
          <p:blipFill>
            <a:blip r:embed="rId3"/>
            <a:stretch/>
          </p:blipFill>
          <p:spPr>
            <a:xfrm>
              <a:off x="3657600" y="4876920"/>
              <a:ext cx="1058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58128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Pu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38080" y="3962520"/>
            <a:ext cx="2819520" cy="639720"/>
            <a:chOff x="838080" y="3962520"/>
            <a:chExt cx="2819520" cy="639720"/>
          </a:xfrm>
        </p:grpSpPr>
        <p:pic>
          <p:nvPicPr>
            <p:cNvPr id="132" name="but-moth180" descr=""/>
            <p:cNvPicPr/>
            <p:nvPr/>
          </p:nvPicPr>
          <p:blipFill>
            <a:blip r:embed="rId4"/>
            <a:stretch/>
          </p:blipFill>
          <p:spPr>
            <a:xfrm>
              <a:off x="2286000" y="3962520"/>
              <a:ext cx="1371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38080" y="3962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ids"/>
                </a:rPr>
                <a:t>Ad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72080" y="4665600"/>
            <a:ext cx="817560" cy="955800"/>
          </a:xfrm>
          <a:custGeom>
            <a:avLst/>
            <a:gdLst/>
            <a:ahLst/>
            <a:rect l="l" t="t" r="r" b="b"/>
            <a:pathLst>
              <a:path w="515" h="602">
                <a:moveTo>
                  <a:pt x="489" y="0"/>
                </a:moveTo>
                <a:cubicBezTo>
                  <a:pt x="515" y="75"/>
                  <a:pt x="478" y="152"/>
                  <a:pt x="454" y="223"/>
                </a:cubicBezTo>
                <a:cubicBezTo>
                  <a:pt x="423" y="314"/>
                  <a:pt x="356" y="392"/>
                  <a:pt x="290" y="458"/>
                </a:cubicBezTo>
                <a:cubicBezTo>
                  <a:pt x="278" y="470"/>
                  <a:pt x="258" y="473"/>
                  <a:pt x="243" y="482"/>
                </a:cubicBezTo>
                <a:cubicBezTo>
                  <a:pt x="183" y="518"/>
                  <a:pt x="182" y="529"/>
                  <a:pt x="125" y="552"/>
                </a:cubicBezTo>
                <a:cubicBezTo>
                  <a:pt x="0" y="602"/>
                  <a:pt x="94" y="556"/>
                  <a:pt x="31" y="5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93960" y="2762280"/>
            <a:ext cx="789120" cy="933480"/>
          </a:xfrm>
          <a:custGeom>
            <a:avLst/>
            <a:gdLst/>
            <a:ahLst/>
            <a:rect l="l" t="t" r="r" b="b"/>
            <a:pathLst>
              <a:path w="497" h="588">
                <a:moveTo>
                  <a:pt x="62" y="588"/>
                </a:moveTo>
                <a:cubicBezTo>
                  <a:pt x="0" y="401"/>
                  <a:pt x="89" y="230"/>
                  <a:pt x="215" y="106"/>
                </a:cubicBezTo>
                <a:cubicBezTo>
                  <a:pt x="216" y="105"/>
                  <a:pt x="303" y="47"/>
                  <a:pt x="321" y="35"/>
                </a:cubicBezTo>
                <a:cubicBezTo>
                  <a:pt x="341" y="21"/>
                  <a:pt x="368" y="20"/>
                  <a:pt x="391" y="12"/>
                </a:cubicBezTo>
                <a:cubicBezTo>
                  <a:pt x="403" y="8"/>
                  <a:pt x="426" y="0"/>
                  <a:pt x="426" y="0"/>
                </a:cubicBezTo>
                <a:cubicBezTo>
                  <a:pt x="482" y="14"/>
                  <a:pt x="458" y="5"/>
                  <a:pt x="497" y="2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52920" y="2873520"/>
            <a:ext cx="933480" cy="709560"/>
          </a:xfrm>
          <a:custGeom>
            <a:avLst/>
            <a:gdLst/>
            <a:ahLst/>
            <a:rect l="l" t="t" r="r" b="b"/>
            <a:pathLst>
              <a:path w="588" h="447">
                <a:moveTo>
                  <a:pt x="0" y="0"/>
                </a:moveTo>
                <a:cubicBezTo>
                  <a:pt x="80" y="12"/>
                  <a:pt x="155" y="34"/>
                  <a:pt x="235" y="47"/>
                </a:cubicBezTo>
                <a:cubicBezTo>
                  <a:pt x="247" y="55"/>
                  <a:pt x="258" y="65"/>
                  <a:pt x="271" y="71"/>
                </a:cubicBezTo>
                <a:cubicBezTo>
                  <a:pt x="293" y="81"/>
                  <a:pt x="341" y="94"/>
                  <a:pt x="341" y="94"/>
                </a:cubicBezTo>
                <a:cubicBezTo>
                  <a:pt x="392" y="128"/>
                  <a:pt x="455" y="163"/>
                  <a:pt x="494" y="212"/>
                </a:cubicBezTo>
                <a:cubicBezTo>
                  <a:pt x="511" y="234"/>
                  <a:pt x="541" y="282"/>
                  <a:pt x="541" y="282"/>
                </a:cubicBezTo>
                <a:cubicBezTo>
                  <a:pt x="555" y="324"/>
                  <a:pt x="588" y="409"/>
                  <a:pt x="588" y="44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7120" y="4759200"/>
            <a:ext cx="839880" cy="895320"/>
          </a:xfrm>
          <a:custGeom>
            <a:avLst/>
            <a:gdLst/>
            <a:ahLst/>
            <a:rect l="l" t="t" r="r" b="b"/>
            <a:pathLst>
              <a:path w="529" h="564">
                <a:moveTo>
                  <a:pt x="529" y="564"/>
                </a:moveTo>
                <a:cubicBezTo>
                  <a:pt x="506" y="561"/>
                  <a:pt x="424" y="560"/>
                  <a:pt x="388" y="540"/>
                </a:cubicBezTo>
                <a:cubicBezTo>
                  <a:pt x="374" y="532"/>
                  <a:pt x="289" y="476"/>
                  <a:pt x="270" y="458"/>
                </a:cubicBezTo>
                <a:cubicBezTo>
                  <a:pt x="233" y="425"/>
                  <a:pt x="205" y="382"/>
                  <a:pt x="165" y="352"/>
                </a:cubicBezTo>
                <a:cubicBezTo>
                  <a:pt x="107" y="309"/>
                  <a:pt x="129" y="333"/>
                  <a:pt x="94" y="282"/>
                </a:cubicBezTo>
                <a:cubicBezTo>
                  <a:pt x="90" y="270"/>
                  <a:pt x="88" y="257"/>
                  <a:pt x="82" y="246"/>
                </a:cubicBezTo>
                <a:cubicBezTo>
                  <a:pt x="76" y="233"/>
                  <a:pt x="64" y="224"/>
                  <a:pt x="59" y="211"/>
                </a:cubicBezTo>
                <a:cubicBezTo>
                  <a:pt x="48" y="181"/>
                  <a:pt x="45" y="148"/>
                  <a:pt x="35" y="117"/>
                </a:cubicBezTo>
                <a:cubicBezTo>
                  <a:pt x="25" y="87"/>
                  <a:pt x="0" y="36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Egg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eggs3" descr=""/>
          <p:cNvPicPr/>
          <p:nvPr/>
        </p:nvPicPr>
        <p:blipFill>
          <a:blip r:embed="rId1"/>
          <a:srcRect l="22755" t="1199" r="1169" b="58976"/>
          <a:stretch/>
        </p:blipFill>
        <p:spPr>
          <a:xfrm>
            <a:off x="1752480" y="2760840"/>
            <a:ext cx="4953240" cy="310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Caterpillar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1" name="LunaMoth02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3809880" cy="320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743760"/>
            <a:ext cx="746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Kids"/>
              </a:rPr>
              <a:t>Pupa or Cocoon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43" name="LunaMoth03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4952880" cy="322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25:55Z</dcterms:created>
  <dc:creator>Instructional</dc:creator>
  <dc:description/>
  <dc:language>en-US</dc:language>
  <cp:lastModifiedBy>Dave Harlan</cp:lastModifiedBy>
  <dcterms:modified xsi:type="dcterms:W3CDTF">2001-07-02T18:59:47Z</dcterms:modified>
  <cp:revision>39</cp:revision>
  <dc:subject/>
  <dc:title>PowerPoint Presentation</dc:title>
</cp:coreProperties>
</file>